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68F-C887-459E-BA2D-0953F34D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FD4-7A6E-46E6-A184-86B8545A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E2E-DEF2-4265-8179-C5A0D24F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55D-2D5D-4EF2-B8F3-1B5ACCC6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215-E951-481A-8CA8-72ED8ED6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65A-ADE6-484E-B2A4-9BAFAC0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7E9-00BA-4577-BAD5-D47C8654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16B-23A2-438E-A223-27067377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DF6-0AF9-4DBC-A989-1840B6A3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369-B4BB-4396-9B38-9CDD4A34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171-2C18-4D22-9A8C-A0D7A4B9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10C-7224-4440-BF2F-AA5628F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5BCC-B18F-426D-B9BE-12165785992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Concept f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ecruiting int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Ralf Schol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 PHE RD Ref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.02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Interview proces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4-Step-Approach for highest qualit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ofile analysis on CV and application on written basi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cumented phone screening on technical basi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interview on a scheduled recruiting day with all necessary parties available. Parallel interviews of candidates by HR and technical department starting with second candidate. Target to have 4 to 5 candidates screened on one recruiting day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up to 3 F2F-interviews (Department, HR, upper management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in the process are dependent on the locatio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The common process ensures the same quality level and comprehensive analysis for KLF and MCH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file analysi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irst analysis has to be done by HR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partment has to deliver a checklist with degree of fulfillment for evaluation to get an objective judg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ofile analysis has to be documented by HR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Results have to handed over to manage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ositive judged surveys have to handed over to departments 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one scree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ne by the depart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basic questionnaire has to be prepared  to check fulfillment degree of requirement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cumentation of results for evaluation purpose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cision whether process continuing is needed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are M. Demaria or St.Luxenburger (one of them mandatory) and mandatory a system architect in the locatio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sonal interview in department and H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tailed technical analysis (hard skills) and social competencies (soft skills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uration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6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20-30 min for presentation of a given topic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6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~1,5 h for questions (part 1 on a prepared technical questionnaire / part 2 evaluation of the answers in more detail) 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commonly agreed positive result is needed for next step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are K. Rudolph or G. Fässler / M. Demaria or St. Luxenburger and in minimum a Line manager or system architect of the location / J. Rein or HR recruiter (Klf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2F-interview with upper managem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or candidates with capabilities for team leading or executive functionalit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talk F2F to Siegfried Bocionek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esult roun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After ending  up the interviews a common round will be done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: all involved managers in the interview proces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wrap up to whom an offer will be give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identification of lacks in interview process or questionnaires to resolve for next recruiting da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Open task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eparation of technical questionnaires for phone screening and first interview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list of technical topics for potential presentation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Questionnaire on emotional framework should be taken from proposal of Siegfried Bocionek. Example questions might be adopted. Revision and feedback from interview team to be done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ix schedule of two recruiting days/month to secure availability of all relevant interviewer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eparation of  similar job descriptions for the other key role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2-17T16:39:37Z</dcterms:modified>
  <cp:revision>58</cp:revision>
  <dc:subject/>
  <dc:title>PowerPoint 簡報</dc:title>
</cp:coreProperties>
</file>